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8422-D8F2-404E-86F3-BB79F92F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8DB-B556-452F-96F4-5E043FC8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D3B-B2DD-48DF-8EE6-EFDD4672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C6E-2AE1-41D2-9630-31CDE8CA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846E-2102-4556-8E5B-E16480D4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A985-A116-4275-8109-89CDF7A0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CDB1-090D-4781-A490-641CFA25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EF43-AABA-4A2C-9E51-EA39D911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7AA7-5426-4A6C-A32F-30C250E5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E214-E140-49B7-A1CA-0DEE0F30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54E3-AF56-447C-9138-43B7DE8E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F3F-3C05-4CB3-8607-6D31F692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2E89-2B22-4B54-ABF2-430A7817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E8E1-9130-4ADB-BE21-073819C8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8EB1-A22B-4B47-AC21-D4BEDC6A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9222-FCBC-4B1A-AE77-FF905150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51F6-5241-46B2-B56E-582F7E2D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8A875-90AE-40A4-8E66-87F8CFB2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B9337-0CBE-4233-ACA6-49F31952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69573-31E9-4CD2-8CED-9B78C969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3626F-5E36-4FF1-9669-7F727FF9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15C6D-F6E6-4BDA-B6CD-47C1288F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CCB-D0C2-4933-9CC1-76A544B0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8B4AA-A2C1-41B9-A8ED-C20130E6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7D848-D4AE-4778-9575-E9BA3BE2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E75DD-D959-4C9B-A815-5D1E6B7D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1EBD0-1D59-4E8C-A8AC-B1FDCBF9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FC385-18EC-4FC8-A6BB-A5B590F1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8BDC2-CA8B-43DD-A98C-42ACB358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A1A90-441E-4C98-99FE-EEA3A2B5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07AF9-3DE7-4366-9CC5-FDDA685E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B12D2-E83B-4306-AFED-6FD692C0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624FA-D594-4BFA-8DCC-DF204560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D0D-20DC-40F2-AEC3-450C0795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F0D6B-446F-485D-A010-292DAF5E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5A2D4-F6D5-47C0-B0BE-8C2CE906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D927D-35FE-47D7-9853-C991380D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E3EA-6A1E-4E45-B384-6056E2B3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287F7-A87E-42F1-912B-9EE7B02E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80561-E65D-4C90-9BDF-B08ABC39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A0996-D0D6-4447-8C88-F1A1D085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47B43-E760-4D3C-8D7B-DF2AACD9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04480-7D54-4B74-99BE-253B5B78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3C4-9CC0-42E6-9ADE-7F37790E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54D-6426-4E89-94EE-52371B77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A6A-8B29-48B3-83C4-076AF788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FF21-71EF-4D10-B97B-836E00DF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707-6D52-4A63-8BD4-AEF40A26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FE42-5904-4CAA-8196-DFA2E314C6F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9766-F252-4A23-B6EA-A94082B45439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8144-116A-487F-B966-05A6CCFF074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10EC-0E9F-47B7-AE54-52EEE24E464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http://therealrevo.com/blog/wp-content/uploads/2009/05/blog20220boiling_frog.jpg"/>
          <p:cNvPicPr/>
          <p:nvPr/>
        </p:nvPicPr>
        <p:blipFill>
          <a:blip r:embed="rId1"/>
          <a:stretch/>
        </p:blipFill>
        <p:spPr>
          <a:xfrm>
            <a:off x="739800" y="0"/>
            <a:ext cx="779472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76160" y="2209680"/>
            <a:ext cx="3313080" cy="170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entury Gothic"/>
              </a:rPr>
              <a:t>Boiling Point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y Doug Leonard, Aaron Blumberg &amp; Joanna Anninos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04560" y="3805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anometer vs. Baromet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TextBox 3"/>
          <p:cNvSpPr/>
          <p:nvPr/>
        </p:nvSpPr>
        <p:spPr>
          <a:xfrm>
            <a:off x="228600" y="1752480"/>
            <a:ext cx="86868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nometer- measures vapor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apor pressure- force exerted by gas above 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arometer- measures atmospher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tmospheric pressure- force exerted on objects by the weight of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oil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eating allows more particles at the liquids surface  to overcome the attractive forces that keep it in a liquid stat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maining particles in liquid speed up as they absorb added energ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verage kinetic energy of particles increas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emperature of liquid increas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2" name="Picture 4" descr="C:\Users\Peter\AppData\Local\Microsoft\Windows\Temporary Internet Files\Content.IE5\EBU42KEN\MM900174023[1].gif"/>
          <p:cNvPicPr/>
          <p:nvPr/>
        </p:nvPicPr>
        <p:blipFill>
          <a:blip r:embed="rId1"/>
          <a:stretch/>
        </p:blipFill>
        <p:spPr>
          <a:xfrm>
            <a:off x="7010280" y="5151600"/>
            <a:ext cx="1676520" cy="14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5331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oil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quid boils when the particles are heated to a certain temperature, at which they have enough kinetic energy to vaporiz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Vapor bubbles form, rise, and escap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5" name="Picture 4" descr="C:\Users\Peter\AppData\Local\Microsoft\Windows\Temporary Internet Files\Content.IE5\EBU42KEN\MM900174023[1].gif"/>
          <p:cNvPicPr/>
          <p:nvPr/>
        </p:nvPicPr>
        <p:blipFill>
          <a:blip r:embed="rId1"/>
          <a:stretch/>
        </p:blipFill>
        <p:spPr>
          <a:xfrm>
            <a:off x="7008840" y="5149800"/>
            <a:ext cx="16779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oiling Point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Boiling Poi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emperature at which the vapor pressure of liquid is equal to external pressure on the liquid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ormal Boiling Poi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iquid at a pressure of 101.3kPa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x. Water = 100˚C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8" name="Picture 5" descr="C:\Users\Peter\AppData\Local\Microsoft\Windows\Temporary Internet Files\Content.IE5\EBU42KEN\MM900174023[1].gif"/>
          <p:cNvPicPr/>
          <p:nvPr/>
        </p:nvPicPr>
        <p:blipFill>
          <a:blip r:embed="rId1"/>
          <a:stretch/>
        </p:blipFill>
        <p:spPr>
          <a:xfrm>
            <a:off x="7008840" y="5149800"/>
            <a:ext cx="16779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7:46:47Z</dcterms:created>
  <dc:creator>14ablumberg</dc:creator>
  <dc:description/>
  <dc:language>en-US</dc:language>
  <cp:lastModifiedBy>udsd</cp:lastModifiedBy>
  <dcterms:modified xsi:type="dcterms:W3CDTF">2012-04-27T14:41:43Z</dcterms:modified>
  <cp:revision>13</cp:revision>
  <dc:subject/>
  <dc:title>Boiling Point</dc:title>
</cp:coreProperties>
</file>